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8F9D-A03C-41E5-B971-7361B270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1CF7-0B9C-4D5B-91CA-1571A322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045-3164-4C3A-B609-DDF339F1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A469-2679-4FDF-A247-E61866EE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B67-6A9D-405C-AEF0-26F1F09C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7A6B-1AF5-4AA1-916D-C01DCA54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F61E-B9C2-4D2A-8CAC-A7D9E434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2DCC-AD8F-4FCE-938E-39402EA6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8112-F2B2-4306-9DB5-82BA3CD1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77D-6C58-424A-AFA1-B0105DA5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5FA-C214-44AF-AEC3-7BD3E670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779D-F06C-4A15-9B5D-C4F3455C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767676"/>
                </a:solidFill>
                <a:latin typeface="Apto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2592C-4E75-4A7F-8944-91B340E69889}" type="slidenum">
              <a:rPr b="0" lang="en-US" sz="1200" spc="-1" strike="noStrike">
                <a:solidFill>
                  <a:srgbClr val="767676"/>
                </a:solidFill>
                <a:latin typeface="Apto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2057400" y="380880"/>
            <a:ext cx="647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828800" y="25146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There is no                more important “business”                      on this planet than                “the people business.”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057400" y="380880"/>
            <a:ext cx="647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209680" y="4191120"/>
            <a:ext cx="72392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ptos"/>
              </a:rPr>
              <a:t>Major in God, </a:t>
            </a:r>
            <a:endParaRPr b="0" lang="en-US" sz="5400" spc="-1" strike="noStrike">
              <a:solidFill>
                <a:srgbClr val="000000"/>
              </a:solidFill>
              <a:latin typeface="Apto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ptos"/>
              </a:rPr>
              <a:t>Minor in People.</a:t>
            </a:r>
            <a:endParaRPr b="0" lang="en-US" sz="54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895480" y="1752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There is much more        to life than meeting a             good-looking , eligible fisherman                            (or “fisher-woman”) …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3200400" y="27432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There is more to life than setting new “fishing records” …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2743200" y="1371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There is more to life than figuring out how you can make enough money to buy more nets and bigger fishing boats…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2362320" y="533520"/>
            <a:ext cx="8305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There is much more to life than being popular with the other fisherman…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Or even being a            “star-athlete” on the FISHERMEN’S ALL STAR TEAM.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7"/>
          <p:cNvSpPr/>
          <p:nvPr/>
        </p:nvSpPr>
        <p:spPr>
          <a:xfrm>
            <a:off x="1905120" y="1905120"/>
            <a:ext cx="87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Next Wednesday night, we launch ‘PROJECT 4:19’ … And OXYGEN’S priority goes on “fishing for people.”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752480" y="838080"/>
            <a:ext cx="8763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We take the title from Matthew 4:19 where Jesus said, “Follow me and I will teach you how to fish for people.”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1981080" y="68580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057400" y="1447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Project 4:19 is a simple, fun competition between all of our O2 Groups to help put the focus on bringing new people to Oxygen…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981080" y="68580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057400" y="1447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And ultimately, to Jesus.  It launches NEXT WEEK and goes through the end of February.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57400" y="685800"/>
            <a:ext cx="9372600" cy="55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tos"/>
              </a:rPr>
              <a:t>Matthew </a:t>
            </a:r>
            <a:endParaRPr b="0" lang="en-US" sz="5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2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tos"/>
              </a:rPr>
              <a:t>4:16, 18-19</a:t>
            </a:r>
            <a:endParaRPr b="0" lang="en-US" sz="5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2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2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tos"/>
              </a:rPr>
              <a:t>“…</a:t>
            </a:r>
            <a:r>
              <a:rPr b="0" lang="en-US" sz="5400" spc="-1" strike="noStrike">
                <a:solidFill>
                  <a:srgbClr val="ffffff"/>
                </a:solidFill>
                <a:latin typeface="Aptos"/>
              </a:rPr>
              <a:t>Upon those </a:t>
            </a:r>
            <a:endParaRPr b="0" lang="en-US" sz="5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tos"/>
              </a:rPr>
              <a:t>Who sit in the </a:t>
            </a:r>
            <a:endParaRPr b="0" lang="en-US" sz="5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tos"/>
              </a:rPr>
              <a:t>Shadow of death, </a:t>
            </a:r>
            <a:endParaRPr b="0" lang="en-US" sz="5400" spc="-1" strike="noStrike">
              <a:solidFill>
                <a:srgbClr val="000000"/>
              </a:solidFill>
              <a:latin typeface="Aptos"/>
            </a:endParaRPr>
          </a:p>
          <a:p>
            <a:pPr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tos"/>
              </a:rPr>
              <a:t>Light has come.”</a:t>
            </a:r>
            <a:endParaRPr b="0" lang="en-US" sz="54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7"/>
          <p:cNvSpPr/>
          <p:nvPr/>
        </p:nvSpPr>
        <p:spPr>
          <a:xfrm>
            <a:off x="1905120" y="228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pto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1000 points for every one of we “regulars” when we show up each week.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905120" y="228600"/>
            <a:ext cx="8458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-1000 points for every one of we “regulars” when we show up each week.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pto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2000 points for every first-time guest.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905120" y="228600"/>
            <a:ext cx="8458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pto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1000 points for every one of we “regulars” when we show up each week.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pto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2000 points for every first-time guest.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pto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3000 points when the guest comes back a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ptos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 time.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905120" y="228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pto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4000 points when that guest comes back a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ptos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 time.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905120" y="228600"/>
            <a:ext cx="8458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pto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4000 points when that guest comes back a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ptos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 time.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pto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5000 points when that guest comes back a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pto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 time.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666880" y="16002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3,000 points for everyone from your O2 Group who attends the Fall Retreat.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7"/>
          <p:cNvSpPr/>
          <p:nvPr/>
        </p:nvSpPr>
        <p:spPr>
          <a:xfrm>
            <a:off x="2133720" y="304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Competition will be done on a “per capita basis.”  That means that the larger groups have no advantage over the smaller ones.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2133720" y="304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So, whatever your group is, big or small, we all start on “even playing grounds”. 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2133720" y="304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For example, an O2 group that starts with 20 people will have to have twice as many points as an 02 group that starts with 10 people.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7"/>
          <p:cNvSpPr/>
          <p:nvPr/>
        </p:nvSpPr>
        <p:spPr>
          <a:xfrm>
            <a:off x="2057400" y="6094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So, what are the prizes for the top three winning O2 Groups?!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1981080" y="685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Now Jesus, walking    by the sea, saw two brothers, Simon who they later called    ‘Peter’ and Andrew.”</a:t>
            </a:r>
            <a:r>
              <a:rPr b="0" lang="en-US" sz="1800" spc="-1" strike="noStrike">
                <a:solidFill>
                  <a:srgbClr val="ffffff"/>
                </a:solidFill>
                <a:latin typeface="Apto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7"/>
          <p:cNvSpPr/>
          <p:nvPr/>
        </p:nvSpPr>
        <p:spPr>
          <a:xfrm>
            <a:off x="2209680" y="1371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Has this kind of ETERNAL MINDSET happened to you yet?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7"/>
          <p:cNvSpPr/>
          <p:nvPr/>
        </p:nvSpPr>
        <p:spPr>
          <a:xfrm>
            <a:off x="2362320" y="1752480"/>
            <a:ext cx="8076960" cy="35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ptos"/>
              </a:rPr>
              <a:t>“</a:t>
            </a:r>
            <a:r>
              <a:rPr b="0" lang="en-US" sz="6000" spc="-1" strike="noStrike">
                <a:solidFill>
                  <a:srgbClr val="ffffff"/>
                </a:solidFill>
                <a:latin typeface="Aptos"/>
              </a:rPr>
              <a:t>White Tags”</a:t>
            </a:r>
            <a:endParaRPr b="0" lang="en-US" sz="6000" spc="-1" strike="noStrike">
              <a:solidFill>
                <a:srgbClr val="000000"/>
              </a:solidFill>
              <a:latin typeface="Aptos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ptos"/>
              </a:rPr>
              <a:t>Vs.</a:t>
            </a:r>
            <a:endParaRPr b="0" lang="en-US" sz="6000" spc="-1" strike="noStrike">
              <a:solidFill>
                <a:srgbClr val="000000"/>
              </a:solidFill>
              <a:latin typeface="Aptos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ptos"/>
              </a:rPr>
              <a:t>“</a:t>
            </a:r>
            <a:r>
              <a:rPr b="0" lang="en-US" sz="6000" spc="-1" strike="noStrike">
                <a:solidFill>
                  <a:srgbClr val="ffffff"/>
                </a:solidFill>
                <a:latin typeface="Aptos"/>
              </a:rPr>
              <a:t>Red Tags”</a:t>
            </a:r>
            <a:endParaRPr b="0" lang="en-US" sz="60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981080" y="685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“…</a:t>
            </a: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They were casting    a net into the sea because they were fisherman.”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981080" y="685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And Jesus said to them, ‘Follow me, and I will teach you to fish for people.’”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981080" y="685800"/>
            <a:ext cx="7391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Older translation of Matthew 4:19 reads,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Follow me and I will make you fishers of men.”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"/>
          <p:cNvSpPr/>
          <p:nvPr/>
        </p:nvSpPr>
        <p:spPr>
          <a:xfrm>
            <a:off x="1828800" y="533520"/>
            <a:ext cx="6095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ptos"/>
              </a:rPr>
              <a:t>In your daily life, are you a “fisher”  or a                  “fisher of men?”</a:t>
            </a:r>
            <a:endParaRPr b="0" lang="en-US" sz="66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2362320" y="1219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Nothing is wrong with “fishing” … in other words, nothing’s wrong with your job, school, your sports, and life in general…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362320" y="12193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ptos"/>
              </a:rPr>
              <a:t>Up to this point, their OCCUPATION had been their PRE- OCCUPATION.</a:t>
            </a: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20:05:08Z</dcterms:created>
  <dc:creator>tdavis</dc:creator>
  <dc:description/>
  <dc:language>en-US</dc:language>
  <cp:lastModifiedBy>chrisminfalt@gmail.com</cp:lastModifiedBy>
  <dcterms:modified xsi:type="dcterms:W3CDTF">2025-08-22T15:01:54Z</dcterms:modified>
  <cp:revision>6</cp:revision>
  <dc:subject/>
  <dc:title>Slide 1</dc:title>
</cp:coreProperties>
</file>